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6.gif" ContentType="image/gif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A6-C20A-4BDE-B73B-F5E7D4A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EB9-B66C-44AC-99B0-97AD24E3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9AA-263E-444D-BBD6-4BFA7894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39E-DC7B-4748-B992-F24F6633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DF2-FB81-45CF-BDB8-E928D93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C58-4203-42D2-B618-B78CE28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832-89FD-4293-A60F-059931C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4191-DA09-4287-A299-F6914FA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7FFE-6F4D-4A17-B7CF-E097042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3FF-CA92-4505-814E-6A7FEC11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F8E8-BCB4-48A1-B325-2F97D24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910-CC7E-4ED3-8893-03EC22D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58C0-4963-4EB7-902E-C33B064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B6A3-BB43-4B21-846A-D908D5D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A44-54E3-4D6D-8CF2-C137F71B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F614-9301-4316-BDE5-60CCACC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8B73-B9C9-4C10-9A24-10B96133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EEC5-E62B-4244-93C5-12B59E87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EE08-C1B3-42D3-B625-4A00AC27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454F-1483-4566-93E7-86D87717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FA80-11AB-4AFC-9014-9D1E47B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9F03-7B7F-4C03-8043-2A84F39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E63-EC1F-4E8D-BDE6-2F5D4811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ABF0-3494-48A0-8417-BCB8A1E7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2883-D1E8-4F47-9459-E1E9BB6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363E-2303-4DA4-9F8C-1049DEC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CD0E-73B3-45A0-B2E2-31C3FFA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C696-EDD5-4788-9AF0-9DF2C6E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8CDA-3C63-42AF-A1F6-7AF00CA4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1187-BD57-4E4B-ACEF-9551641A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C7C3-0DC8-4F75-94D0-E53C58DA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806C-38E7-47DD-B020-D99B178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86EB-4885-40EA-B029-C3ED884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DDF-6422-4753-975E-EECBD4D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3D97-8C97-474D-BA22-24F59EFD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04D5-03A2-4E3D-89F4-82AF406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20BB-D74A-46A2-A55B-849DA6E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17B0-EDCA-43A3-8F57-37F3849D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A2B4-5A69-4D9C-A707-73CFD47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92A5-10FF-45CB-8730-D6BD061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2E3F-D27C-431F-8ED8-19A2F08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17DF-0CEE-4143-8C55-C7B115EF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3007-B6C2-446E-AB7F-5C21FDFB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185D-03A0-40AE-A0BA-F576317D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566-FFA5-4566-92DF-D956325F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B489-02C8-4A0F-A6AC-91EEFA72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D792-C0DA-4EF4-A02F-7AB6AFC2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71ED-4B44-44C7-9639-F870F47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F3FF-E650-4751-9C9A-2D157AE8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6C39-EAEE-40B6-9084-B7FF136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8088-D6A0-4B96-BB33-FD8990D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6BF4-7B8E-4272-B74F-48871B3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4B2C-88F6-41C2-96E7-C7784E4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DF56-7C37-4110-9E85-EBBDAABB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0E53D-1066-4C7A-BEC9-A511CA92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2C2-9FC1-438F-A6B0-BCDBECA7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D50B-BB91-4110-A28D-99B73B9D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2DC5-E34B-45CB-9178-C9374E7E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5C2A-8190-43A1-8ADB-D63E38CA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E3AB-C3E2-4D35-9CD4-7CCC3A2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5945-2536-489E-AA45-146F9C0D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AC9E-1B77-4558-B7DD-C211E640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34CD-A59A-4412-8B19-4B4DC84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DCA1E-44F0-46EC-A056-D8CA183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5FE1-D384-4B69-A649-C287219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32658-7D6C-442E-A759-09603FF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203-A6AE-4B95-A3C8-E5190A0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C015-ED77-4A86-A5E5-8048FD46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18708-E3D5-4845-A845-3E1D1FF2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D8AE-C151-456C-81A2-6CFC5E33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4BFFB-FD45-40E3-BF96-AF1A79D8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A6528-5482-422F-BF07-99CFAEE9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05C8-7350-48CE-9726-211B3314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DE80-9F62-4C43-BB09-AC2B9294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5A65-5C09-4460-A9D1-711C043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77858-2285-4BDF-9D21-7ADD6158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58A1-998C-48F7-A8EC-715A7B8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8FE-B3D1-43B1-BC90-882063F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B7479-2710-4DFF-B816-FFA0C56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89D3-B5FD-4218-9E92-46BB8BD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40A5-5F3E-4587-BA06-6EFFDE5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DFFF-E0D8-4DBB-9EF5-5201446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97F7-3785-4DE3-991E-62E50BC2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67669-F7BC-4EB8-A555-BEABB223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70EC-D803-4907-B16D-C63F8FEA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CCCD-82FC-436C-B185-82BF4B97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930A-058D-4C50-BD80-0FDB7E9A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8A64C-09C0-448D-8FBC-3893ADD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DDF-6A99-4C5B-947C-5E624D3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B2D0-2AD1-4CA1-93D6-71E4C93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63B6-7A54-4B9D-BE69-D7BAC7F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3EE1-82AF-4A4E-9DCA-4CEF64B8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4D4AC-3812-413D-9BC2-9EB5054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CB09-CCD8-4A02-9B91-95A18E4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78DB2-8D46-4D7E-97C3-39F27EB7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AB2B-6702-4E94-8B0D-0D611F10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7B8-CBD0-411E-B3D5-D0919342F3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E5D-9C46-4821-9603-EC52EDC4435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BB72-2778-4D89-BABF-C3C11E4437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4207-6D4F-4444-BF5D-078501A0CEF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4F2-417C-4235-BAAC-466C9C472B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84D-BCE6-49D4-92ED-A62640FE73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CAA-90FB-4E3F-83A9-2935F8EF27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B65-A71C-4F95-AFDB-12281813697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2240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286000" cy="2313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6064200" y="2971800"/>
            <a:ext cx="3079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363840" cy="2057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5905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334120" y="42696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019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349880" y="228600"/>
            <a:ext cx="2133360" cy="2425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2205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724280" y="0"/>
            <a:ext cx="2205000" cy="248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257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571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http://4.bp.blogspot.com/-Q06yizijw0w/Tge6QhfGXuI/AAAAAAAABB0/6Mg5C1Or0FE/s1600/Muchas+Gracias+Gif+Animado-gracias.gif"/>
          <p:cNvPicPr/>
          <p:nvPr/>
        </p:nvPicPr>
        <p:blipFill>
          <a:blip r:embed="rId1"/>
          <a:stretch/>
        </p:blipFill>
        <p:spPr>
          <a:xfrm>
            <a:off x="2133720" y="609480"/>
            <a:ext cx="5243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6480" y="585720"/>
            <a:ext cx="8016840" cy="35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34040" y="228600"/>
            <a:ext cx="2224080" cy="189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800600" y="39852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443560" y="3200400"/>
            <a:ext cx="2028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4452840" y="519120"/>
            <a:ext cx="2028960" cy="1704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1743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5288040" y="434880"/>
            <a:ext cx="1743120" cy="199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955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234040" y="609480"/>
            <a:ext cx="2095560" cy="1247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5313240" y="3200400"/>
            <a:ext cx="176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865760" y="228600"/>
            <a:ext cx="1762200" cy="193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209680" cy="1924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5791320" y="318600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76920" y="34308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tretch/>
        </p:blipFill>
        <p:spPr>
          <a:xfrm>
            <a:off x="6629400" y="3124080"/>
            <a:ext cx="20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03:45:35Z</dcterms:created>
  <dc:creator>System User</dc:creator>
  <dc:description/>
  <dc:language>en-US</dc:language>
  <cp:lastModifiedBy>System User</cp:lastModifiedBy>
  <dcterms:modified xsi:type="dcterms:W3CDTF">2012-02-06T19:23:35Z</dcterms:modified>
  <cp:revision>8</cp:revision>
  <dc:subject/>
  <dc:title>  Yo tengo la regla.     ¿Quién tiene el creyón?   </dc:title>
</cp:coreProperties>
</file>